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29E6-4060-4A6C-89FD-04DA159D4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1189-F607-4CD2-89D6-057D40502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6A71-7EE9-4C53-9EB7-B091E6DB4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B6F2-7453-4CBB-985D-333BB6A96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ED849-3870-49BD-B8AD-67364298A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38A29-6774-4463-9ADF-7F438F604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F3862-80D4-47B3-A1B3-B76E846CE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28C9B-6D5B-4EB4-A183-1E1ABF4C4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CB3B2-BB9A-4942-AB1D-0B17FA407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65FC2-8B8E-4959-8DCC-5BFA2BEB6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90227-2ED2-4B5A-B676-B24EA4957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7EBB-8D59-4927-A58D-75B613C39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9F9D2-7093-4215-9B53-89B2C3E78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C79CE-A9A0-4BBE-BAC4-FC6C2524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5BC36-6BBC-4D3A-A5B5-3F32BE7F9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05534-6F49-417E-91B5-6A261E9E9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03D57-3B5C-48F9-A6FA-63B63ED9D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6B2E-2F3B-430B-8C4C-33FE43EAB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E74E-0045-4714-88FD-9D1250598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1AF8-B6A7-42F7-A6B2-594C9D6DD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A3BA-1895-465F-8DEF-576DDF18F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C357-2785-419F-91D9-855ED907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A426-3807-4715-BD69-0482F87C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671A-F45C-4E55-AB05-208C1C5C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2F98B-4DEC-420D-96C9-88E3D7A1B00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08490-2FF9-4EDF-BDB7-8A2FDFBB5E4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Failure of Prohibitio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y: Andy Boy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illiam Bahureks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dam Brit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End of Prohibi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40384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hibition was ended with the 2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Verdana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Amendment in 1933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648320" y="2362320"/>
            <a:ext cx="403848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istory of the Amend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ohibition was Put in place in 1919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ohibition is where the trade and consumption of alcohol is illega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as meant to be enforced by the Volstead Ac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ecause of this, the crime rate went up substantially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istory Cont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ecause so many people of the middle class could not afford going to a speakeasies, a club where liquor is sold illegally, people often resorted to bootlegg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ootlegge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ootleggers are people that produced, sold, or transported alcohol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 Capone was one of the most famous Bootleggers of his tim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419720" y="2290680"/>
            <a:ext cx="4419360" cy="30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ASCA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re is a myth that bootleggers rigged there cars to hold heavy loads of alcohol with supercharged engines, heavy shocks, and spring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stories of these cars make up much of stock-car racing’s root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Normality of Law Break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growing problem is the Americans were breaking the law too casuall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cause of prohibition the cocktail was develop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960800" y="1600200"/>
            <a:ext cx="341172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om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01680" y="1752480"/>
            <a:ext cx="4235400" cy="43434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ny women for prohibition, however, some refused to obey i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omen were not allowed to drink in saloons, so speakeasies were developed as a place for women to drink at a high pri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peakeasi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peakeasies were illegal underground clubs for people to buy alcohol at a high pri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y 1925 there were 100,000 in New York Cit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419720" y="1978200"/>
            <a:ext cx="42670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roblems with the Law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llegal distilling, doctor prescriptions, bootleggers, etc. was occurring frequently as many did not take the law seriously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952880" y="1523880"/>
            <a:ext cx="3262320" cy="44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2T15:14:34Z</dcterms:created>
  <dc:creator>TECH</dc:creator>
  <dc:description/>
  <dc:language>en-US</dc:language>
  <cp:lastModifiedBy>ASD</cp:lastModifiedBy>
  <dcterms:modified xsi:type="dcterms:W3CDTF">2010-06-22T21:11:25Z</dcterms:modified>
  <cp:revision>3</cp:revision>
  <dc:subject/>
  <dc:title>Failure of Prohibition</dc:title>
</cp:coreProperties>
</file>